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DF9-49E9-4534-90DD-0706E6A5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CF8-5D27-4C9F-A6A0-11318607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E8E-B639-4D03-946F-658CDE5F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C67-42B4-4405-819C-A413091F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1886-A44F-4611-A80F-BC33C0D7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3CA7-023D-4257-88FD-3DDA1A00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34DC-E5ED-4CDE-89EA-5E31CEBD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290F-B4BE-4557-A562-F0821F56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5996-8509-41A8-9E86-F474B861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7364-306D-4B99-9801-D8DEDF1C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EE5C-6948-47DE-98C3-D3D004A1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D2F-876D-4FCF-903A-5D72944C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3F2D-F4CD-40EE-94D1-61B774CB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D32F-6CC7-41DB-80B8-876314E1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C421-C76D-4B69-A1E0-BB4F13CD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EE2E-0F6E-4A41-B30B-ADC892F7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CE9E-4229-40D4-9100-F03C8A0F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0D6-596B-4015-929C-EC294532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358-DF63-4262-99D1-8BF70E4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8C3-3A05-4816-B577-D03C5960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B1A-A9FB-4849-BBB9-3A130976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1C4-07D1-4E39-B77B-9706268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BA1-032A-4AA2-A8D5-A2E4A407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60E-CBF5-4173-A6FD-AB8F7869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294B-072C-477F-8A3F-DCC6D09281A8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F038-2B6B-40E2-BACD-EE6C8EC8DF51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odrobné predstavenie motocyklov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ezentáciu vytvoril Christian Bielik 9.A ZŠ Podolie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33720" y="838080"/>
            <a:ext cx="4724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nda-Motocykl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ástupca niekdajšej vzduchom chladenej XR 600 R je skvelou voľbou pre jazdcov, ktorí sa pohybujú výlučne mimo ces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666880" y="838080"/>
            <a:ext cx="3657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onda XR 600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6" name="Bez%20názvu%201" descr=""/>
          <p:cNvPicPr/>
          <p:nvPr/>
        </p:nvPicPr>
        <p:blipFill>
          <a:blip r:embed="rId2"/>
          <a:stretch/>
        </p:blipFill>
        <p:spPr>
          <a:xfrm>
            <a:off x="2666880" y="3624120"/>
            <a:ext cx="38228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90920" y="76212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Honda CBR 600R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88" name="Bez%20názvu%201" descr=""/>
          <p:cNvPicPr/>
          <p:nvPr/>
        </p:nvPicPr>
        <p:blipFill>
          <a:blip r:embed="rId1"/>
          <a:stretch/>
        </p:blipFill>
        <p:spPr>
          <a:xfrm>
            <a:off x="5791320" y="4387680"/>
            <a:ext cx="3352680" cy="2470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Honda tohtoročnou novinkou CBR 600 RR mnohým vyrazila dych a prelomila tradíciu nie príliš ostrých,ale zato vyvážených a univerzálnych CBR 600.Už dve „R“ v názve novej šesťstovky prezrádzajú,že ide o výlučne športový motocyke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838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 tomto svojom prvom štvortaktnom motokrosovom modelu použila Honda veľa častí a technických riešení z dvojtaktných modelov,ako napríklad hliníkový rám typu deltabox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133720" y="838080"/>
            <a:ext cx="4495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NDA CRF 45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93" name="Bez%20názvu%201" descr=""/>
          <p:cNvPicPr/>
          <p:nvPr/>
        </p:nvPicPr>
        <p:blipFill>
          <a:blip r:embed="rId4"/>
          <a:stretch/>
        </p:blipFill>
        <p:spPr>
          <a:xfrm>
            <a:off x="3733920" y="4008600"/>
            <a:ext cx="3927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1:22:37Z</dcterms:created>
  <dc:creator>compaq</dc:creator>
  <dc:description/>
  <dc:language>en-US</dc:language>
  <cp:lastModifiedBy>Compaq D300vm Infovek</cp:lastModifiedBy>
  <dcterms:modified xsi:type="dcterms:W3CDTF">2003-03-14T15:10:47Z</dcterms:modified>
  <cp:revision>9</cp:revision>
  <dc:subject/>
  <dc:title>HONDA-Enduro</dc:title>
</cp:coreProperties>
</file>