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D77B-8948-4B47-82D0-928FD03E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DEEB-1033-4E7C-AEB1-5945FCD9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3401-C57B-4B1B-ACD9-FC9D81E7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AEC-6A42-48B1-A83D-782EF9EC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7F0A-0893-4FE1-BD34-2CA54AED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01D0-A574-46DA-9072-499A4397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6D72-8C34-48B5-991D-72702FFF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9DFA-CB03-451C-8AD5-2FCB027C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3067-7E3A-49AD-A380-FBC5AD22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D56F-A21A-4B6E-AEA3-621736D8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385E-943E-48B3-8FD5-DBD9E0A8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3013-F767-4C52-AD47-3FE6CEF7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3F28-6227-4102-BF1A-0A113E4A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32C1-B684-4E75-8282-D9CE6E74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7FF5-57A3-457F-BD60-CAF49CA4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DB65-0885-473F-B4E8-E8F1B0A7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1F7E-3467-4BD1-A631-14E95ED8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02F-FB01-4E23-BE73-1B5DA451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5263-0DD4-485D-8FD0-0C5F5042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BD7A-D0B6-40B0-9F8E-5C853170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4FA-8BEA-44ED-B350-C9FC12A1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062-030A-4482-8506-1EE6224D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A9F-A347-4C48-8FF2-1CFD180F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7FBD-A591-405A-A03D-52E49704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04CC-5AD5-4E16-969C-53BD2FA0A2F2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FD44-EF7C-4EF5-AB5C-5B1230A57EE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182880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Legenda sa vrátil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143000" y="3428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ffffff"/>
                </a:solidFill>
                <a:latin typeface="Arial"/>
              </a:rPr>
              <a:t>Maybach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64911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ffffff"/>
                </a:solidFill>
                <a:latin typeface="Arial"/>
              </a:rPr>
              <a:t>Autor prezentácie: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 Pavol Čechvala, ZŠ Podol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Obsah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f98d43"/>
                </a:solidFill>
                <a:uFillTx/>
                <a:latin typeface="Arial"/>
                <a:hlinkClick r:id="rId2" action="ppaction://hlinksldjump"/>
              </a:rPr>
              <a:t>Úv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 u="sng">
                <a:solidFill>
                  <a:srgbClr val="f98d43"/>
                </a:solidFill>
                <a:uFillTx/>
                <a:latin typeface="Arial"/>
                <a:hlinkClick r:id="rId4" action="ppaction://hlinksldjump"/>
              </a:rPr>
              <a:t>Návrat značky Mayb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 histó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Maybach 6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Rozmery, hmotnosti, obje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1440" y="-1080"/>
            <a:ext cx="35053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vo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19810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Mnohé automobilové značky z počiatočnej éry rozvoja motorizmu už upadli do zabudnutia, niektoré pretrvali dodnes, ale len máloktorým sa podarilo o znovuzrodenie po tom, čo už desaťročia driemali v automobilovej hitórii. Takéto druhé narodenie práve prežíva značka Maybach, ktorá už vyše šesť desaťročí žila len v spomienkach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6781680" y="472428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auto3" descr=""/>
          <p:cNvPicPr/>
          <p:nvPr/>
        </p:nvPicPr>
        <p:blipFill>
          <a:blip r:embed="rId2"/>
          <a:stretch/>
        </p:blipFill>
        <p:spPr>
          <a:xfrm>
            <a:off x="2133720" y="3887640"/>
            <a:ext cx="661824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Návrat značky Maybach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981080"/>
            <a:ext cx="91440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O znovuzrodenie tejto značky sa zaslúžil automobilový koncern DaimlerChrysler, lebo do tohto koncernu kedysi Maybach paril a ešte aj patrí spolu s automobilkou Mercedes, s ktorou Maybach spolupracoval. V roku 2002 na Ženevskom autosalóne koncern DaimlerChrysle oficiálne oznámil znovuzrodenie značky Maybach ako výtobcu ultraluxusných vozidiel. Z pôvodnej značky bol s malými úpravami prevzatý aj emblém tvorený dvoma písmenami M v trojuholníku so zaoblenými stranami – zatiaľ čo písmená pôvodnej značky znamenali Maybach Motorenbau, teraz znamenajú Maybach Manufaktur čo svedčí o tom, že tam, kde ide o najvyššiu kvalitu, musia automaty, roboty a montážne pásy stále ešte ustúpiť manufaktúrnemu spôsobu výroby, v ktorom nenahraditeľnú úlohu hrajú šikovné ľutské ruky.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6019920" y="4419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62920" y="4419720"/>
            <a:ext cx="838080" cy="76176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3763" h="21600">
                <a:moveTo>
                  <a:pt x="0" y="0"/>
                </a:moveTo>
                <a:lnTo>
                  <a:pt x="23763" y="0"/>
                </a:lnTo>
                <a:lnTo>
                  <a:pt x="23763" y="21600"/>
                </a:lnTo>
                <a:lnTo>
                  <a:pt x="0" y="21600"/>
                </a:lnTo>
                <a:close/>
              </a:path>
              <a:path fill="lightenLess" w="23763" h="21600">
                <a:moveTo>
                  <a:pt x="0" y="0"/>
                </a:moveTo>
                <a:lnTo>
                  <a:pt x="23763" y="0"/>
                </a:lnTo>
                <a:lnTo>
                  <a:pt x="22363" y="1400"/>
                </a:lnTo>
                <a:lnTo>
                  <a:pt x="1400" y="1400"/>
                </a:lnTo>
                <a:close/>
              </a:path>
              <a:path fill="darken" w="23763" h="21600">
                <a:moveTo>
                  <a:pt x="23763" y="0"/>
                </a:moveTo>
                <a:lnTo>
                  <a:pt x="23763" y="21600"/>
                </a:lnTo>
                <a:lnTo>
                  <a:pt x="22363" y="20200"/>
                </a:lnTo>
                <a:lnTo>
                  <a:pt x="22363" y="1400"/>
                </a:lnTo>
                <a:close/>
              </a:path>
              <a:path fill="darkenLess" w="23763" h="21600">
                <a:moveTo>
                  <a:pt x="23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3" y="20200"/>
                </a:lnTo>
                <a:close/>
              </a:path>
              <a:path fill="lighten" w="23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3" h="21600">
                <a:moveTo>
                  <a:pt x="11882" y="3837"/>
                </a:moveTo>
                <a:lnTo>
                  <a:pt x="14458" y="6448"/>
                </a:lnTo>
                <a:lnTo>
                  <a:pt x="14458" y="4707"/>
                </a:lnTo>
                <a:lnTo>
                  <a:pt x="16233" y="4707"/>
                </a:lnTo>
                <a:lnTo>
                  <a:pt x="16233" y="8224"/>
                </a:lnTo>
                <a:lnTo>
                  <a:pt x="18844" y="10800"/>
                </a:lnTo>
                <a:lnTo>
                  <a:pt x="17191" y="10800"/>
                </a:lnTo>
                <a:lnTo>
                  <a:pt x="17191" y="17989"/>
                </a:lnTo>
                <a:lnTo>
                  <a:pt x="6572" y="17989"/>
                </a:lnTo>
                <a:lnTo>
                  <a:pt x="6572" y="10800"/>
                </a:lnTo>
                <a:lnTo>
                  <a:pt x="4919" y="10800"/>
                </a:lnTo>
                <a:close/>
              </a:path>
              <a:path fill="darkenLess" w="23763" h="21600">
                <a:moveTo>
                  <a:pt x="14458" y="6448"/>
                </a:moveTo>
                <a:lnTo>
                  <a:pt x="14458" y="4707"/>
                </a:lnTo>
                <a:lnTo>
                  <a:pt x="16233" y="4707"/>
                </a:lnTo>
                <a:lnTo>
                  <a:pt x="16233" y="8224"/>
                </a:lnTo>
                <a:close/>
              </a:path>
              <a:path fill="darkenLess" w="23763" h="21600">
                <a:moveTo>
                  <a:pt x="10959" y="14299"/>
                </a:moveTo>
                <a:lnTo>
                  <a:pt x="12804" y="14299"/>
                </a:lnTo>
                <a:lnTo>
                  <a:pt x="12804" y="17989"/>
                </a:lnTo>
                <a:lnTo>
                  <a:pt x="17191" y="17989"/>
                </a:lnTo>
                <a:lnTo>
                  <a:pt x="17191" y="10800"/>
                </a:lnTo>
                <a:lnTo>
                  <a:pt x="6572" y="10800"/>
                </a:lnTo>
                <a:lnTo>
                  <a:pt x="6572" y="17989"/>
                </a:lnTo>
                <a:lnTo>
                  <a:pt x="10959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auto1" descr=""/>
          <p:cNvPicPr/>
          <p:nvPr/>
        </p:nvPicPr>
        <p:blipFill>
          <a:blip r:embed="rId2"/>
          <a:stretch/>
        </p:blipFill>
        <p:spPr>
          <a:xfrm>
            <a:off x="0" y="4038480"/>
            <a:ext cx="4648320" cy="2132280"/>
          </a:xfrm>
          <a:prstGeom prst="rect">
            <a:avLst/>
          </a:prstGeom>
          <a:ln w="0">
            <a:noFill/>
          </a:ln>
        </p:spPr>
      </p:pic>
      <p:pic>
        <p:nvPicPr>
          <p:cNvPr id="155" name="auto2" descr=""/>
          <p:cNvPicPr/>
          <p:nvPr/>
        </p:nvPicPr>
        <p:blipFill>
          <a:blip r:embed="rId3"/>
          <a:stretch/>
        </p:blipFill>
        <p:spPr>
          <a:xfrm>
            <a:off x="4800600" y="4038480"/>
            <a:ext cx="434340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Z históri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295280"/>
            <a:ext cx="6858000" cy="45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k-SK" sz="1500" spc="-1" strike="noStrike">
                <a:solidFill>
                  <a:srgbClr val="ffffff"/>
                </a:solidFill>
                <a:latin typeface="Arial"/>
              </a:rPr>
              <a:t>Za značkou Maybach treba vidieť dvoch mužov - otca a syna. Wilhem Maybach (1846-1929) bol spolupracovbíkom Gottlieba Daimlera, technickým riaditeľom spoločnosti Daimler Motoren. Tento muž sa pokladá za „kráľa konštruktérov“ a v roku 1901 skonšruoval prvý Merecedes považovaný za pravzor moderných automobilov. Wilhem Maybach vyvinul do takpovediac sériovej zrelosti štvortaktný motor, ktorého vynálezcom bol Nikolaus Otto. V roku 1907 tento geniálny konštruktér opustil spoločnosť Daimler a začal spolu so svojím synom Karlom venovať sa vývoju a výrobe výkonných motorov pre vzducholode, ktoré vo Friedrichshafene konštruoval gróf Ferdinand von Zeppelin. Po prvej svetovej vojne však Namecko podľa Versailleskej zmluvy nesmelo vyrábať žiadne „lietajúce stroje“ a tak sa spoločnosť Maybach preorientovala na výrobu automobiloných motorov. Tie však nešli veľmi na odbyt a preto sa Maybachovci rozhodli vyrábať kompletné osobné automobili. Prvý svoj vlastný automobil predstavili roku 1921. Automobili Maybach pre svoje pokrokové technické riešenia a pohodlie si vyslúžili prezývku „nemecký Rolls-Royce“. Špičkovým produktom spoločnosti Maybach bol typ DS8 Zeppelim, predstavený v roku 1931. Toto mohutné vozidlo bolo dlhé 5,5 metra, bolo poháňané osemlitroným V12-valcom výkonu 147kW. Zeppelin s päťstupňovou prevodovkov mal maximálku okolo 160km/h. V rokoch 1921-1941 bolo vyrobených 2000 vozidiel tejto značky. Karl Maybach zomrel ako 81 ročný, keď jeho firmu formálne prevzal koncern Daimler-Benz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Bez%20názvu%201" descr=""/>
          <p:cNvPicPr/>
          <p:nvPr/>
        </p:nvPicPr>
        <p:blipFill>
          <a:blip r:embed="rId1"/>
          <a:stretch/>
        </p:blipFill>
        <p:spPr>
          <a:xfrm>
            <a:off x="6705720" y="914400"/>
            <a:ext cx="219384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Maybach 62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523880"/>
            <a:ext cx="4114800" cy="74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aybach 62 je vlastne brat svojho menšieho modelu, ktorý má označenie Maybach 57 a líši sa len rozmermi. Maybach 62 bol predstavený v New Yorku, kam bol prevezený v špeciálnom sklenom kontajneri n hornej palube luxusnej lodi Queen Elizabeth 2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Bez%20názvu%202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473220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Rozmery, hmotnosti, obje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286000"/>
            <a:ext cx="373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209680"/>
            <a:ext cx="8915400" cy="36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Rozmery exteriéru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dížka 6170mm, šírka 1980mm, výška 1573mm, rázvor kolies 3827m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Rozmery interiéru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komfortná miera 2682mm, pozdížna rozteč sedadiel 1570mm, možná rozteč predných sedadiel 840m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Objem batožinového preistoru: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ez rezervného kolesa s tesniacim prostriedkom TIREFIT 605l a s rezernným kolesom 500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Celková hmotnosť auta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2885k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43800" y="51055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3499" y="3837"/>
                </a:moveTo>
                <a:lnTo>
                  <a:pt x="16075" y="6448"/>
                </a:lnTo>
                <a:lnTo>
                  <a:pt x="16075" y="4707"/>
                </a:lnTo>
                <a:lnTo>
                  <a:pt x="17851" y="4707"/>
                </a:lnTo>
                <a:lnTo>
                  <a:pt x="17851" y="8224"/>
                </a:lnTo>
                <a:lnTo>
                  <a:pt x="20462" y="10800"/>
                </a:lnTo>
                <a:lnTo>
                  <a:pt x="18808" y="10800"/>
                </a:lnTo>
                <a:lnTo>
                  <a:pt x="18808" y="17989"/>
                </a:lnTo>
                <a:lnTo>
                  <a:pt x="8190" y="17989"/>
                </a:lnTo>
                <a:lnTo>
                  <a:pt x="8190" y="10800"/>
                </a:lnTo>
                <a:lnTo>
                  <a:pt x="6536" y="10800"/>
                </a:lnTo>
                <a:close/>
              </a:path>
              <a:path fill="darkenLess" w="26998" h="21600">
                <a:moveTo>
                  <a:pt x="16075" y="6448"/>
                </a:moveTo>
                <a:lnTo>
                  <a:pt x="16075" y="4707"/>
                </a:lnTo>
                <a:lnTo>
                  <a:pt x="17851" y="4707"/>
                </a:lnTo>
                <a:lnTo>
                  <a:pt x="17851" y="8224"/>
                </a:lnTo>
                <a:close/>
              </a:path>
              <a:path fill="darkenLess" w="26998" h="21600">
                <a:moveTo>
                  <a:pt x="12576" y="14299"/>
                </a:moveTo>
                <a:lnTo>
                  <a:pt x="14422" y="14299"/>
                </a:lnTo>
                <a:lnTo>
                  <a:pt x="14422" y="17989"/>
                </a:lnTo>
                <a:lnTo>
                  <a:pt x="18808" y="17989"/>
                </a:lnTo>
                <a:lnTo>
                  <a:pt x="18808" y="10800"/>
                </a:lnTo>
                <a:lnTo>
                  <a:pt x="8190" y="10800"/>
                </a:lnTo>
                <a:lnTo>
                  <a:pt x="8190" y="17989"/>
                </a:lnTo>
                <a:lnTo>
                  <a:pt x="12576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14:29:11Z</dcterms:created>
  <dc:creator>Peter</dc:creator>
  <dc:description/>
  <dc:language>en-US</dc:language>
  <cp:lastModifiedBy>Compaq D300vm Infovek</cp:lastModifiedBy>
  <dcterms:modified xsi:type="dcterms:W3CDTF">2003-03-14T14:37:49Z</dcterms:modified>
  <cp:revision>7</cp:revision>
  <dc:subject/>
  <dc:title>Legenda sa vrátila</dc:title>
</cp:coreProperties>
</file>