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AFF-0AA5-470B-9F5E-76FED250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354-60B1-41C1-86BA-30115F1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16A-A925-44D0-A423-88A03212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2E6-527D-44F1-B73B-C4F8730A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074-CCA2-4B42-B5DC-8B2798F6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EC3-51A0-490A-A175-321FEAE8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DA3-A046-46CE-BACD-9C1794A3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485-A976-49E5-B709-5AB721D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46B-73BB-422D-88A1-28C9DFB2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843-9EC7-4E7C-9BA1-B17B838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FB7-5199-433D-9ED5-22A6C86A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AB1-13ED-403E-9914-389F46A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881-B4AD-434C-8732-3C9C30EAA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1905120"/>
            <a:ext cx="236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Ázia</a:t>
            </a:r>
            <a:endParaRPr b="0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914400"/>
            <a:ext cx="2771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ntinent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BD05680_" descr=""/>
          <p:cNvPicPr/>
          <p:nvPr/>
        </p:nvPicPr>
        <p:blipFill>
          <a:blip r:embed="rId5"/>
          <a:stretch/>
        </p:blipFill>
        <p:spPr>
          <a:xfrm>
            <a:off x="5181480" y="304920"/>
            <a:ext cx="3738600" cy="2962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53341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Autor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 Stanka Červeňanská, Michaela Masár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Š Podolie, 9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 u="sng">
                <a:solidFill>
                  <a:srgbClr val="33cc33"/>
                </a:solidFill>
                <a:uFillTx/>
                <a:latin typeface="Times New Roman"/>
              </a:rPr>
              <a:t>Áz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5320" y="198108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e najväčší a najhornatejší konti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ozprestiera sa od ľadovej Arktídy až po horúci rovní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äčšina pôdy je neúrodná, s rozľahlými púšťami, ale v Ázii sa nachádzajú aj najúrodnejšie roviny a doliny na sv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A01441_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03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 u="sng">
                <a:solidFill>
                  <a:srgbClr val="6666ff"/>
                </a:solidFill>
                <a:uFillTx/>
                <a:latin typeface="Times New Roman"/>
              </a:rPr>
              <a:t>Sibí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526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zime je nevľúdne chlad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severe leží tundra, v ktorej je časť pôdy zamrznut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užnejšie leží najväčší komplex ihličnatých lesov na sv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tudený les prechádza do suchej trávnatej oblasti -ste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01380_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3079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 u="sng">
                <a:solidFill>
                  <a:srgbClr val="ff9900"/>
                </a:solidFill>
                <a:uFillTx/>
                <a:latin typeface="Times New Roman"/>
              </a:rPr>
              <a:t>Stredoázijské púš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9000" y="19807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úšte Taklamakan a Gobi majú horúce letá, ale mimoriadne chladné zi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Ich povrch je zväčša skalnatý s plochami pohyblivého pie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egetácia je zriedkavá okrem riečnych dol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iektoré zvieratá dokážu prežiť aj chladné zimy púšte G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O01038_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27381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3300"/>
                </a:solidFill>
                <a:uFillTx/>
                <a:latin typeface="Times New Roman"/>
              </a:rPr>
              <a:t>Himal</a:t>
            </a:r>
            <a:r>
              <a:rPr b="1" lang="sk-SK" sz="4400" spc="-1" strike="noStrike" u="sng">
                <a:solidFill>
                  <a:srgbClr val="663300"/>
                </a:solidFill>
                <a:uFillTx/>
                <a:latin typeface="Times New Roman"/>
              </a:rPr>
              <a:t>á</a:t>
            </a:r>
            <a:r>
              <a:rPr b="1" lang="en-US" sz="4400" spc="-1" strike="noStrike" u="sng">
                <a:solidFill>
                  <a:srgbClr val="663300"/>
                </a:solidFill>
                <a:uFillTx/>
                <a:latin typeface="Times New Roman"/>
              </a:rPr>
              <a:t>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ozprestierajú sa medzi Indickým subkontinentom a Tibe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Leží v ňom najvyšší štít sveta Mount Ev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oto pohorie sústavne pokrýva sn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D05219_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 u="sng">
                <a:solidFill>
                  <a:srgbClr val="008080"/>
                </a:solidFill>
                <a:uFillTx/>
                <a:latin typeface="Times New Roman"/>
              </a:rPr>
              <a:t>Jang - C´- ťia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áto rieka preteká väčšinou medzi ho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dolnom toku tečie popri okraji Veľkej čínskej nížiny až do Východočínskeho m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rovinách sa jej voda používa na zavlažov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E03255_" descr=""/>
          <p:cNvPicPr/>
          <p:nvPr/>
        </p:nvPicPr>
        <p:blipFill>
          <a:blip r:embed="rId2"/>
          <a:stretch/>
        </p:blipFill>
        <p:spPr>
          <a:xfrm>
            <a:off x="4952880" y="3144960"/>
            <a:ext cx="3353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 u="sng">
                <a:solidFill>
                  <a:srgbClr val="800000"/>
                </a:solidFill>
                <a:uFillTx/>
                <a:latin typeface="Times New Roman"/>
              </a:rPr>
              <a:t>Ohnivý kru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okraji pevniny a na ostrovoch vybuchujú sopky tak často, že sa táto oblasť nazýva ohnivý kr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roku 1928 vznikol na ostrove nový vulkán, ktorý nazvali Anak Krakat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D06716_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3670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2:33:13Z</dcterms:created>
  <dc:creator>compaq</dc:creator>
  <dc:description/>
  <dc:language>en-US</dc:language>
  <cp:lastModifiedBy>compaq</cp:lastModifiedBy>
  <dcterms:modified xsi:type="dcterms:W3CDTF">2003-02-24T12:33:45Z</dcterms:modified>
  <cp:revision>3</cp:revision>
  <dc:subject/>
  <dc:title>Ázia</dc:title>
</cp:coreProperties>
</file>