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5906-AD73-4D16-BB46-0A95452D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B8E-E1B9-41C9-919E-55573564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BAE4-A1BC-49B4-9A72-63505979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071C-77F2-4828-AB28-A32FC36C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A46D-EE4B-4DD2-AE62-AB01A744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5FCA-60E1-4791-91CC-DE283EB6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946A-4BCE-40F4-A25C-9F2C78A9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136E-C6BB-4776-B5ED-F0193E99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3054-A7BA-4E96-879E-5BC9ACF0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9CB1-8643-4E92-82A9-6EBF0FFB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B3A3-6758-4F30-8E08-F2BAF0D8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DC1E-62EB-46DC-A479-55A4C7FA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D398-9D39-476E-8333-F068B6B7E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Times New Roman"/>
              </a:rPr>
              <a:t>F.C. BARCELO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89480" y="3394080"/>
            <a:ext cx="19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Lukáš Hlatk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ez%20názvu%201" descr=""/>
          <p:cNvPicPr/>
          <p:nvPr/>
        </p:nvPicPr>
        <p:blipFill>
          <a:blip r:embed="rId1"/>
          <a:stretch/>
        </p:blipFill>
        <p:spPr>
          <a:xfrm>
            <a:off x="3733920" y="3962520"/>
            <a:ext cx="14745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Times New Roman"/>
              </a:rPr>
              <a:t>Španielsky veľklu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24-krát španielsky maj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4-krát víťaz PVP (pohár víťazov poháro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Vlastní všetky európske pohá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100 rokov existen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Jeden z najväčších štadiónov na sv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Times New Roman"/>
              </a:rPr>
              <a:t>Estadio Camp N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Estadio Camp je jedným z najväčších štadiónov nielen v Európe, ale i na svete. Jeho kapacita sa kolíše okolo 100 000 – divákov. Je známy tým, že v ňom je kaplnka, ktorú hráči a funkcionári používajú na modlenie sa pred zápasom (zasvätil ju sám pápež Ján Pavol II.) Pre zaujímavosť šatňa áčka má rozlohu 200 m</a:t>
            </a:r>
            <a:r>
              <a:rPr b="0" lang="sk-SK" sz="3200" spc="-1" strike="noStrike" baseline="30000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ďalej sieň slávy gigantických rozmerov a múze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4120" y="29718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Frank de Bour – hviezda Barcelo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4920" y="685800"/>
          <a:ext cx="4800600" cy="28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4800600" cy="28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Bez%20názvu%201" descr=""/>
          <p:cNvPicPr/>
          <p:nvPr/>
        </p:nvPicPr>
        <p:blipFill>
          <a:blip r:embed="rId3"/>
          <a:stretch/>
        </p:blipFill>
        <p:spPr>
          <a:xfrm>
            <a:off x="5486400" y="457200"/>
            <a:ext cx="2846520" cy="2503440"/>
          </a:xfrm>
          <a:prstGeom prst="rect">
            <a:avLst/>
          </a:prstGeom>
          <a:ln w="0">
            <a:noFill/>
          </a:ln>
        </p:spPr>
      </p:pic>
      <p:pic>
        <p:nvPicPr>
          <p:cNvPr id="52" name="Bez%20názvu%201" descr=""/>
          <p:cNvPicPr/>
          <p:nvPr/>
        </p:nvPicPr>
        <p:blipFill>
          <a:blip r:embed="rId4"/>
          <a:stretch/>
        </p:blipFill>
        <p:spPr>
          <a:xfrm>
            <a:off x="5257800" y="3657600"/>
            <a:ext cx="3463920" cy="2217600"/>
          </a:xfrm>
          <a:prstGeom prst="rect">
            <a:avLst/>
          </a:prstGeom>
          <a:ln w="0">
            <a:noFill/>
          </a:ln>
        </p:spPr>
      </p:pic>
      <p:pic>
        <p:nvPicPr>
          <p:cNvPr id="53" name="Bez%20názvu%201" descr=""/>
          <p:cNvPicPr/>
          <p:nvPr/>
        </p:nvPicPr>
        <p:blipFill>
          <a:blip r:embed="rId5"/>
          <a:stretch/>
        </p:blipFill>
        <p:spPr>
          <a:xfrm>
            <a:off x="479520" y="3720960"/>
            <a:ext cx="462600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1:23:15Z</dcterms:created>
  <dc:creator>Compaq D300vm Infovek</dc:creator>
  <dc:description/>
  <dc:language>en-US</dc:language>
  <cp:lastModifiedBy>Compaq D300vm Infovek</cp:lastModifiedBy>
  <dcterms:modified xsi:type="dcterms:W3CDTF">2003-03-14T15:04:41Z</dcterms:modified>
  <cp:revision>7</cp:revision>
  <dc:subject/>
  <dc:title>F.C. BARCELONA</dc:title>
</cp:coreProperties>
</file>