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575F-7E12-42FB-A373-2F01B7B32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94B2-704A-4D3C-9EAD-F925B8B2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77C6-B226-4102-A4BC-D311CF1F4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9BFD-F948-44A6-91D5-AC61664A0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3E49-6136-4F1C-87DF-55BCFC39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54E5-F7E2-48A2-B732-A5D39301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ECD6-93FA-43E1-9507-4050FDFC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9EDB-C2D6-4460-AB58-7959E73C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C4C4-2F65-4134-9252-FC49F17A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0492-9966-43B2-8302-9056131C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8612-83F5-44EE-9FFB-231227FC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E265-77F9-45E0-B569-C71B6A32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8113-5930-49D6-84CA-FF6002268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c0000"/>
                </a:solidFill>
                <a:latin typeface="Times New Roman"/>
              </a:rPr>
              <a:t>Sedem divov svet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Beáta Marákov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ZŠ Podol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762120"/>
            <a:ext cx="807732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1.Cheopsova ( Chufevova) pyramíd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2. Visuté záhrady Semiramid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3. Diova socha v Olymp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4. Artemidin chrá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5. Mausolova hrob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6. Rodoský ko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Times New Roman"/>
              </a:rPr>
              <a:t>7. Maják na ostrove Faros pri Alexandr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533520"/>
            <a:ext cx="8915400" cy="51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8000"/>
                </a:solidFill>
                <a:latin typeface="Times New Roman"/>
              </a:rPr>
              <a:t>Prvý div sve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Cheopsova ( Chufevova) pyramí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ysoká 146,6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áklady 230m*230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vba pyramídy trvá asi 30 rok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covalo na nej asi 100 000 ľud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yramídy sú miestami posledného odpočinku faraó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ez%20názvu%201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322272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533520"/>
            <a:ext cx="8534160" cy="58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cc"/>
                </a:solidFill>
                <a:latin typeface="Times New Roman"/>
              </a:rPr>
              <a:t>Druhý div sve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cc"/>
                </a:solidFill>
                <a:latin typeface="Times New Roman"/>
              </a:rPr>
              <a:t>Visuté záhrady Semiramid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pokladá sa, že záhrady tvorilo 7 ter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ástlo tam množstvo drevín, živých plotov, kríkov a       kvet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 lete bola teplota viac ako 50°C - otroci museli stále čerpať vodu a zavlažovať tera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žili tam kačice aj ža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iramidine vysuté záhrady boli rozkvitnuté aj v najväčšom tep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Bez%20názvu%201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7655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457200"/>
            <a:ext cx="8915400" cy="57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cc"/>
                </a:solidFill>
                <a:latin typeface="Times New Roman"/>
              </a:rPr>
              <a:t>Tretí div sve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cc"/>
                </a:solidFill>
                <a:latin typeface="Times New Roman"/>
              </a:rPr>
              <a:t>Diova socha v Olymp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ytvorili ju 438 rokov p.n.l. a patrí k najdokonalejším dielam anti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ha bola vytvorená zo slonoviny a zl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la vysoká 12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os bol grécky boh a pokladal sa aj za najvyššieho rozhodcu olympijských hier a pripisovala sa mu ochranná m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ez%20názvu%201" descr=""/>
          <p:cNvPicPr/>
          <p:nvPr/>
        </p:nvPicPr>
        <p:blipFill>
          <a:blip r:embed="rId1"/>
          <a:stretch/>
        </p:blipFill>
        <p:spPr>
          <a:xfrm>
            <a:off x="5181480" y="228600"/>
            <a:ext cx="207972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38080" y="38088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Štvrtý div sve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Artemidin chrá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905120"/>
            <a:ext cx="822960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yhorel v roku 356 p.n.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ék Herostratos podpálil chrám len preto,  aby sa dostal do dejí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ám takmer celý vyhor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 zázrak a božie znamenie Efezania pokladli to, že v ruinách našli takmer neporušenú sochu Artemi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temis bola uctievaná bohyňa lov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požiari bol chrám znova postaven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z%20názvu%201" descr=""/>
          <p:cNvPicPr/>
          <p:nvPr/>
        </p:nvPicPr>
        <p:blipFill>
          <a:blip r:embed="rId1"/>
          <a:stretch/>
        </p:blipFill>
        <p:spPr>
          <a:xfrm>
            <a:off x="5334120" y="380880"/>
            <a:ext cx="327960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685800"/>
            <a:ext cx="8153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iaty div sve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ausolova hrob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590920"/>
            <a:ext cx="89154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l ju postaviť kárijský kráľ Mausolus v Halikarna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yhlásil súťaž o najkrajší návrh náhrob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usolus zomrel ešte pred dokončením hrob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 výstavbe pokračovala jeho manželka Artemis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i ona sa nedožila dokončenia hrob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ácu dokončili až samotní sochá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ez%20názvu%201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352080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Bez%20názvu%201" descr=""/>
          <p:cNvPicPr/>
          <p:nvPr/>
        </p:nvPicPr>
        <p:blipFill>
          <a:blip r:embed="rId1"/>
          <a:stretch/>
        </p:blipFill>
        <p:spPr>
          <a:xfrm>
            <a:off x="5867280" y="98280"/>
            <a:ext cx="2617920" cy="2949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" y="533520"/>
            <a:ext cx="8686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99"/>
                </a:solidFill>
                <a:latin typeface="Times New Roman"/>
              </a:rPr>
              <a:t>Šiesty div sveta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Rodoský ko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2286000"/>
            <a:ext cx="86104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l postavený pre boha Héli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y ochránil Rodos pred Demetriovými vojsk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ha bola vysoká 36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yplnená íľom, obložená tenkými bromzovými platň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ála iba 66 rok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 roku 224 p.n.l. sa pri zemetrasení zrúti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533520"/>
            <a:ext cx="8381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08080"/>
                </a:solidFill>
                <a:latin typeface="Times New Roman"/>
              </a:rPr>
              <a:t>Siedmy div sve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8080"/>
                </a:solidFill>
                <a:latin typeface="Times New Roman"/>
              </a:rPr>
              <a:t>Maják na ostrove Faros pri Alexandr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2057400"/>
            <a:ext cx="82296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ják bol vysoký 130 m, najvyšší na sv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vrhol ho macedónsky kráľ Alexa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ják však nikdy nevi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 roku 796 p.n.l. sa zrút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 zemertas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ez%20názvu%201" descr=""/>
          <p:cNvPicPr/>
          <p:nvPr/>
        </p:nvPicPr>
        <p:blipFill>
          <a:blip r:embed="rId1"/>
          <a:stretch/>
        </p:blipFill>
        <p:spPr>
          <a:xfrm>
            <a:off x="5181480" y="3276720"/>
            <a:ext cx="3211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1:48:00Z</dcterms:created>
  <dc:creator>PC</dc:creator>
  <dc:description/>
  <dc:language>en-US</dc:language>
  <cp:lastModifiedBy>Compaq D300vm Infovek</cp:lastModifiedBy>
  <dcterms:modified xsi:type="dcterms:W3CDTF">2003-03-14T14:48:14Z</dcterms:modified>
  <cp:revision>5</cp:revision>
  <dc:subject/>
  <dc:title>Sedem divov sveta</dc:title>
</cp:coreProperties>
</file>