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544C-BE03-4282-8C4F-3E31AAFCA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96B3-34A6-4B02-B4EA-64B754FD6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3E32-7783-47C2-B2F2-F2850D2BF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26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5404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98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26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5404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EE3A-981B-4160-B107-667D77E8A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4B249-4A31-448C-B4F8-594699536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67A97-9E48-43F7-9AED-1089D57F2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2FFD8-1C50-4197-91CC-4790DEB01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C11BB-0D75-495E-8E14-E549721A9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99ABD-6DD6-439B-BAAB-C3812FCB4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85800" y="350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769D0-6117-4CCF-AFF4-F3575C14E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2589B-A53A-495C-BE94-E621A2DA8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D5A5-E7B9-4BB6-B118-4CAEB9354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E421F-CC21-4AE0-AEC8-F970D4650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2366B-6E6B-4378-AF6E-31F0BE20E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0DC50-CF7C-4822-991A-7BB78B591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F9D03-ABA6-4577-8913-7444B3A02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26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5404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98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26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5404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46349-AB39-4228-A514-AD4DC4583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EADE-27B8-4840-9AA3-1DCE33017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FFD0-DEE5-4D54-A262-4CAD31AEC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CCD3-5A3A-499B-B64D-FEC23CDF4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350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B3CD-17B9-4203-8139-43D89C10F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A79B-17AC-4753-8AD2-9ED64C765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708F-3C0B-4CAA-82B0-85561070C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4190-384C-425F-82D1-01A117F48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8160" y="-12600"/>
            <a:ext cx="9239400" cy="6940080"/>
            <a:chOff x="-38160" y="-12600"/>
            <a:chExt cx="9239400" cy="6940080"/>
          </a:xfrm>
        </p:grpSpPr>
        <p:sp>
          <p:nvSpPr>
            <p:cNvPr id="1" name=""/>
            <p:cNvSpPr/>
            <p:nvPr/>
          </p:nvSpPr>
          <p:spPr>
            <a:xfrm>
              <a:off x="8744040" y="-9360"/>
              <a:ext cx="455400" cy="6927840"/>
            </a:xfrm>
            <a:prstGeom prst="rect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31680" y="-9360"/>
              <a:ext cx="457200" cy="6933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 flipV="1" rot="10800000">
              <a:off x="-16920" y="-12600"/>
              <a:ext cx="9204120" cy="457200"/>
            </a:xfrm>
            <a:custGeom>
              <a:avLst/>
              <a:gdLst>
                <a:gd name="textAreaLeft" fmla="*/ 1003320 w 9204120"/>
                <a:gd name="textAreaRight" fmla="*/ 8200800 w 9204120"/>
                <a:gd name="textAreaTop" fmla="*/ 49680 h 457200"/>
                <a:gd name="textAreaBottom" fmla="*/ 4075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11" y="21600"/>
                  </a:lnTo>
                  <a:lnTo>
                    <a:pt x="1089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>
              <a:off x="-37800" y="6466680"/>
              <a:ext cx="9239400" cy="460440"/>
            </a:xfrm>
            <a:custGeom>
              <a:avLst/>
              <a:gdLst>
                <a:gd name="textAreaLeft" fmla="*/ 1009800 w 9239400"/>
                <a:gd name="textAreaRight" fmla="*/ 8229600 w 9239400"/>
                <a:gd name="textAreaTop" fmla="*/ 50040 h 460440"/>
                <a:gd name="textAreaBottom" fmla="*/ 410400 h 46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00" y="21600"/>
                  </a:lnTo>
                  <a:lnTo>
                    <a:pt x="11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72880" y="282600"/>
              <a:ext cx="8623440" cy="63309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8580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1657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55308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F1D2C-3960-450E-B006-E3C200ACC573}" type="slidenum">
              <a:rPr b="0" lang="cs-CZ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-38160" y="-12600"/>
            <a:ext cx="9239400" cy="6940080"/>
            <a:chOff x="-38160" y="-12600"/>
            <a:chExt cx="9239400" cy="6940080"/>
          </a:xfrm>
        </p:grpSpPr>
        <p:sp>
          <p:nvSpPr>
            <p:cNvPr id="48" name=""/>
            <p:cNvSpPr/>
            <p:nvPr/>
          </p:nvSpPr>
          <p:spPr>
            <a:xfrm>
              <a:off x="8744040" y="-9360"/>
              <a:ext cx="455400" cy="6927840"/>
            </a:xfrm>
            <a:prstGeom prst="rect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-31680" y="-9360"/>
              <a:ext cx="457200" cy="6933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 flipV="1" rot="10800000">
              <a:off x="-16920" y="-12600"/>
              <a:ext cx="9204120" cy="457200"/>
            </a:xfrm>
            <a:custGeom>
              <a:avLst/>
              <a:gdLst>
                <a:gd name="textAreaLeft" fmla="*/ 1003320 w 9204120"/>
                <a:gd name="textAreaRight" fmla="*/ 8200800 w 9204120"/>
                <a:gd name="textAreaTop" fmla="*/ 49680 h 457200"/>
                <a:gd name="textAreaBottom" fmla="*/ 4075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11" y="21600"/>
                  </a:lnTo>
                  <a:lnTo>
                    <a:pt x="1089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-37800" y="6466680"/>
              <a:ext cx="9239400" cy="460440"/>
            </a:xfrm>
            <a:custGeom>
              <a:avLst/>
              <a:gdLst>
                <a:gd name="textAreaLeft" fmla="*/ 1009800 w 9239400"/>
                <a:gd name="textAreaRight" fmla="*/ 8229600 w 9239400"/>
                <a:gd name="textAreaTop" fmla="*/ 50040 h 460440"/>
                <a:gd name="textAreaBottom" fmla="*/ 410400 h 46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00" y="21600"/>
                  </a:lnTo>
                  <a:lnTo>
                    <a:pt x="11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72880" y="282600"/>
              <a:ext cx="8623440" cy="63309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698400" y="6154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136680" y="6154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565680" y="61545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BE2C2-6555-41AA-BC62-C004C83BD655}" type="slidenum">
              <a:rPr b="0" lang="cs-CZ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609480" y="3324240"/>
            <a:ext cx="8001000" cy="374760"/>
            <a:chOff x="609480" y="3324240"/>
            <a:chExt cx="8001000" cy="374760"/>
          </a:xfrm>
        </p:grpSpPr>
        <p:sp>
          <p:nvSpPr>
            <p:cNvPr id="58" name=""/>
            <p:cNvSpPr/>
            <p:nvPr/>
          </p:nvSpPr>
          <p:spPr>
            <a:xfrm>
              <a:off x="609480" y="3470400"/>
              <a:ext cx="8001000" cy="228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15960" y="3324240"/>
              <a:ext cx="7843680" cy="277920"/>
            </a:xfrm>
            <a:prstGeom prst="rect">
              <a:avLst/>
            </a:prstGeom>
            <a:gradFill rotWithShape="0">
              <a:gsLst>
                <a:gs pos="0">
                  <a:srgbClr val="e6dcac"/>
                </a:gs>
                <a:gs pos="100000">
                  <a:srgbClr val="e6dcac"/>
                </a:gs>
              </a:gsLst>
              <a:lin ang="13500000"/>
            </a:gradFill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22440" y="3394080"/>
              <a:ext cx="7840440" cy="0"/>
            </a:xfrm>
            <a:prstGeom prst="line">
              <a:avLst/>
            </a:prstGeom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22440" y="3470400"/>
              <a:ext cx="7840440" cy="0"/>
            </a:xfrm>
            <a:prstGeom prst="line">
              <a:avLst/>
            </a:prstGeom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22440" y="3546360"/>
              <a:ext cx="7840440" cy="0"/>
            </a:xfrm>
            <a:prstGeom prst="line">
              <a:avLst/>
            </a:prstGeom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22440" y="3379680"/>
              <a:ext cx="784044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22440" y="3456000"/>
              <a:ext cx="784044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22440" y="3532320"/>
              <a:ext cx="784044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4400" spc="-1" strike="noStrike">
                <a:solidFill>
                  <a:srgbClr val="ffcc66"/>
                </a:solidFill>
                <a:latin typeface="Times New Roman"/>
              </a:rPr>
              <a:t>Splnili očakávania fanúšikov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 u="sng">
                <a:solidFill>
                  <a:srgbClr val="eaeaea"/>
                </a:solidFill>
                <a:uFillTx/>
                <a:latin typeface="Times New Roman"/>
              </a:rPr>
              <a:t>Futbalové majstrovstvá sveta 2002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0880" y="579132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eaeaea"/>
                </a:solidFill>
                <a:latin typeface="Times New Roman"/>
              </a:rPr>
              <a:t>Juraj Masár, Tomáš Krajčík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962520" y="57913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eaeaea"/>
                </a:solidFill>
                <a:latin typeface="Times New Roman"/>
              </a:rPr>
              <a:t>9.A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06" name="Bez%20názvu%201" descr=""/>
          <p:cNvPicPr/>
          <p:nvPr/>
        </p:nvPicPr>
        <p:blipFill>
          <a:blip r:embed="rId1"/>
          <a:stretch/>
        </p:blipFill>
        <p:spPr>
          <a:xfrm>
            <a:off x="5029200" y="1447920"/>
            <a:ext cx="34066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4400" spc="-1" strike="noStrike">
                <a:solidFill>
                  <a:srgbClr val="ffcc66"/>
                </a:solidFill>
                <a:latin typeface="Times New Roman"/>
              </a:rPr>
              <a:t>David Beckham</a:t>
            </a:r>
            <a:br>
              <a:rPr sz="4400"/>
            </a:br>
            <a:r>
              <a:rPr b="1" lang="sk-SK" sz="2000" spc="-1" strike="noStrike">
                <a:solidFill>
                  <a:srgbClr val="ffcc66"/>
                </a:solidFill>
                <a:latin typeface="Times New Roman"/>
              </a:rPr>
              <a:t>(Anglicko)</a:t>
            </a:r>
            <a:endParaRPr b="0" lang="en-US" sz="2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123720" y="1752480"/>
            <a:ext cx="5715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eaeaea"/>
                </a:solidFill>
                <a:latin typeface="Times New Roman"/>
              </a:rPr>
              <a:t>Populárny stredopoliar Manchestru United sa narodil 2. mája 1975 v londýnskom Leytnostone. Svoje futbalové začiatky si odkrútil v klube Preston North End. Po kvalifikácii na MS vo Francúzku po prvý raz okúsil atmosféru svetového šampionátu, v ktorom sa blysol gólom z priameho kopu do siete Kolumbie. V osemfinálovom zápase proti Argentíne sa nechal hlúpo vylúčiť. Zato si doma vyslúžil tvrdú kritiku. Šancu na reparát bude mať na tohtoročných MS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09" name="Bez%20názvu%201" descr=""/>
          <p:cNvPicPr/>
          <p:nvPr/>
        </p:nvPicPr>
        <p:blipFill>
          <a:blip r:embed="rId1"/>
          <a:stretch/>
        </p:blipFill>
        <p:spPr>
          <a:xfrm>
            <a:off x="609480" y="2133720"/>
            <a:ext cx="2746440" cy="39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4400" spc="-1" strike="noStrike">
                <a:solidFill>
                  <a:srgbClr val="ffcc66"/>
                </a:solidFill>
                <a:latin typeface="Times New Roman"/>
              </a:rPr>
              <a:t>Roberto Carlos</a:t>
            </a:r>
            <a:br>
              <a:rPr sz="4400"/>
            </a:br>
            <a:r>
              <a:rPr b="1" lang="sk-SK" sz="2800" spc="-1" strike="noStrike">
                <a:solidFill>
                  <a:srgbClr val="ffcc66"/>
                </a:solidFill>
                <a:latin typeface="Times New Roman"/>
              </a:rPr>
              <a:t>(Brazília)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eaeaea"/>
                </a:solidFill>
                <a:latin typeface="Times New Roman"/>
              </a:rPr>
              <a:t>Brazílčan s dynamitom v ľavej nohe oblieka dres španielskeho Realu Madrid, s ktorým vyhral v roku 1998, 2000 a 2002 Ligu majstrov a v roku 2001 získal španielsky majstrovský titul. Svoju vlasť reprezentoval na posledných MS 1998 vo Francúzku, kde sa Brazília dostala až do finále tam podľahla domácim hráčom vysoko 0:3, „kanárici“ spolu s Carlosom sa však netaja získať piaty titul. 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2" name="Bez%20názvu%201" descr=""/>
          <p:cNvPicPr/>
          <p:nvPr/>
        </p:nvPicPr>
        <p:blipFill>
          <a:blip r:embed="rId1"/>
          <a:stretch/>
        </p:blipFill>
        <p:spPr>
          <a:xfrm>
            <a:off x="533520" y="2362320"/>
            <a:ext cx="242244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4400" spc="-1" strike="noStrike">
                <a:solidFill>
                  <a:srgbClr val="ffcc66"/>
                </a:solidFill>
                <a:latin typeface="Times New Roman"/>
              </a:rPr>
              <a:t>Luis Figo</a:t>
            </a:r>
            <a:br>
              <a:rPr sz="4400"/>
            </a:br>
            <a:r>
              <a:rPr b="1" i="1" lang="sk-SK" sz="2800" spc="-1" strike="noStrike">
                <a:solidFill>
                  <a:srgbClr val="ffcc66"/>
                </a:solidFill>
                <a:latin typeface="Times New Roman"/>
              </a:rPr>
              <a:t>(Portugalsko)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831760" y="166536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eaeaea"/>
                </a:solidFill>
                <a:latin typeface="Times New Roman"/>
              </a:rPr>
              <a:t>Druhý najdrahší futbalista sveta sa narodil 4. Novembra 1972 v  portugalskej  Almade. Svoju kariéru odštartoval v roku 1989 v Sportingu Lisabon, odkial prestúpil do Barcelony. V lete 2000 sa upísal Realu Madrid. Minulý rok sa stal najlepším hráčom (FIFA)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5" name="Bez%20názvu%201" descr=""/>
          <p:cNvPicPr/>
          <p:nvPr/>
        </p:nvPicPr>
        <p:blipFill>
          <a:blip r:embed="rId1"/>
          <a:stretch/>
        </p:blipFill>
        <p:spPr>
          <a:xfrm>
            <a:off x="762120" y="2209680"/>
            <a:ext cx="2046240" cy="33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4400" spc="-1" strike="noStrike">
                <a:solidFill>
                  <a:srgbClr val="ffcc66"/>
                </a:solidFill>
                <a:latin typeface="Times New Roman"/>
              </a:rPr>
              <a:t>Raúl Gonzáles</a:t>
            </a:r>
            <a:br>
              <a:rPr sz="4400"/>
            </a:br>
            <a:r>
              <a:rPr b="1" lang="sk-SK" sz="2800" spc="-1" strike="noStrike">
                <a:solidFill>
                  <a:srgbClr val="ffcc66"/>
                </a:solidFill>
                <a:latin typeface="Times New Roman"/>
              </a:rPr>
              <a:t>(Španielsko)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352680" y="175248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eaeaea"/>
                </a:solidFill>
                <a:latin typeface="Times New Roman"/>
              </a:rPr>
              <a:t>Narodil sa 27. Júna 1977 v Madride a už ako 17- ročný sa blysol v Reale. Tento vinikajúci útočník však robí obrovskú radosť fanúšikom „Bieleho baletu“, keď mu pomohol k trom víťazstvám v Lige majstrov (1998, 2000, 2002) a k španielskemu titulu (2001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8" name="Bez%20názvu%201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3028680" cy="27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11:37:56Z</dcterms:created>
  <dc:creator>compaq</dc:creator>
  <dc:description/>
  <dc:language>en-US</dc:language>
  <cp:lastModifiedBy>Compaq D300vm Infovek</cp:lastModifiedBy>
  <dcterms:modified xsi:type="dcterms:W3CDTF">2003-03-14T14:59:38Z</dcterms:modified>
  <cp:revision>6</cp:revision>
  <dc:subject/>
  <dc:title>Splnili očakávania fanúšikov?</dc:title>
</cp:coreProperties>
</file>