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B30-D09B-4630-8426-8B0CBF1D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AA7-6583-4DE6-892B-D92FCB6F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C04-8226-4C33-9370-86485CC7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B76-F74A-45CB-8280-C2A5CEC6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054C-6348-42DB-B5A7-A8064D11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24E2-D6C2-456C-905C-8A9C7CB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6FFF-E005-41A4-B6D3-F6373C6B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DF50-0725-4AF6-B93F-7953DC1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92A2-1C81-426B-9F05-D17E594F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6EFF-4E2B-4EC7-B7B7-C93AB420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677F-3320-480B-93FA-9B0A30BA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580-ED26-4191-AC66-47425898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3A12-0004-431F-A018-AA34E901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D175-DDA4-40FA-850C-F882811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C61C-83FD-495F-B8FB-23551BFA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EF96-D9E6-468A-A81A-93AED441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2511-AC2A-4E60-BC80-F7820C97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0E3-59F6-4D39-AB90-90575C3C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073-59E6-4312-83D6-4D802D39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C7A-1D13-49A5-9FDE-2F01F34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33E-0450-46AA-B9BB-5A214E03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5D8-581B-4BE7-94AB-462DD844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907-B7D2-415F-90B6-B5DC69F1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6BC-29AC-490C-A379-6DC8F42D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0614-09F9-410D-8F08-B2CD328EAF39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5412-1A80-4909-A113-45FA163D0F0E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rvá svetová vojna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zentácia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nátky Kotlebovej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roniky Masárovej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ko to všetko začalo</a:t>
            </a: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rbský študent Gavrilo Princip spáchal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tentát na rakúskeho arcivojvodu Františka Ferdinanda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yužitie atentátu na porátanie so Srbsko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8.júla 1914 Rakúsko Uhorsko vypovedalo vojnu Srbsku =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prvá svetová vojn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9" name="Bez%20názvu%201" descr=""/>
          <p:cNvPicPr/>
          <p:nvPr/>
        </p:nvPicPr>
        <p:blipFill>
          <a:blip r:embed="rId2"/>
          <a:stretch/>
        </p:blipFill>
        <p:spPr>
          <a:xfrm>
            <a:off x="4659480" y="2168640"/>
            <a:ext cx="43322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V zápale boj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oje na troch frontoch :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užný front -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akúsko-Uhorsko proti Srbsk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západný front -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mecko proti Francúzsk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ýchodný front -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mecko proti Rusku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2" name="Bez%20názvu%201" descr=""/>
          <p:cNvPicPr/>
          <p:nvPr/>
        </p:nvPicPr>
        <p:blipFill>
          <a:blip r:embed="rId2"/>
          <a:stretch/>
        </p:blipFill>
        <p:spPr>
          <a:xfrm>
            <a:off x="4495680" y="2738520"/>
            <a:ext cx="46483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Tahoma"/>
              </a:rPr>
              <a:t>Američania vstupujú do vojny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litika USA 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yhlásenie neutra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merický obchod s Európou rozkvitá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mecko rozpútava ponorkovú vojnu- zatiahnutie USA do vojn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A vyhlasuje vojnu Nemecku a R-U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11.november 1918 Bezpodmienečná kapitulácia Nemecka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omery po vojne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urópske mocnosti strácajú dovtedajšiu svetovú nadvládu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zrastá význam USA a sovietskeho Rusk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iektoré európske národy získali nezávislosť - Slováci, Česi, Poliaci, Chorváti a Ír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odpísanie kapitulácie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8" name="Bez%20názvu%201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614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1:55:14Z</dcterms:created>
  <dc:creator>PC3</dc:creator>
  <dc:description/>
  <dc:language>en-US</dc:language>
  <cp:lastModifiedBy>Compaq D300vm Infovek</cp:lastModifiedBy>
  <dcterms:modified xsi:type="dcterms:W3CDTF">2003-03-14T14:53:06Z</dcterms:modified>
  <cp:revision>6</cp:revision>
  <dc:subject/>
  <dc:title>Prvá a druhá svetová vojna</dc:title>
</cp:coreProperties>
</file>